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F3F3-A782-4ECF-BB04-557C0E78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D7DB-9851-4E2B-A91D-BBD169AA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5CF0-729E-466B-9D0A-2AE06D95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A7BE-E838-434E-8CB0-B80274CE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0F07-DF69-4953-A0FE-258B4F53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6A44-7D3B-47D8-B349-E9F290FC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7F40-E050-495C-A160-2EBDEED6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6BA2-2E22-4549-8222-FDA0D834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DFA0-99AF-4050-A5FF-CB095BE8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E5FF-E04A-41C1-8EF8-70941CC5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EA0D-29B2-4A2C-A031-F0B14587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F59F-9474-42EE-B811-6D0CB88E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6BD0-2E62-4D5F-845C-4F41DEBE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9BBE-1991-42AB-8A82-3E354DA6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FC70-919E-469A-903B-0F58AB34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3A03-6B5E-467C-A7B7-7DEFF877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1016-B3A0-4D8C-A7DF-C872C50F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C858-A3C4-4DB2-BC5F-C7657126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D30D-B21D-4C0D-833E-DEB4D575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8918-B4B7-4307-A7F9-450B73D7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378-656E-48B0-B6D3-59370C8A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35CF-BDE5-46A8-9933-07EC240E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21DE-F262-4C24-B0FC-E0D4105F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154D-6042-4697-8D93-0D619922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1727-145E-4E30-9A22-EE169AEDA1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E344-F434-4A22-9D3C-A0353B5CA89E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7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3600" spc="-1" strike="noStrike">
                <a:solidFill>
                  <a:srgbClr val="333399"/>
                </a:solidFill>
                <a:latin typeface="Tahoma"/>
              </a:rPr>
              <a:t>Research Proposal</a:t>
            </a:r>
            <a:br>
              <a:rPr sz="3600"/>
            </a:br>
            <a:br>
              <a:rPr sz="2800"/>
            </a:br>
            <a:r>
              <a:rPr b="0" i="1" lang="cs-CZ" sz="2800" spc="-1" strike="noStrike">
                <a:solidFill>
                  <a:srgbClr val="ff0000"/>
                </a:solidFill>
                <a:latin typeface="Tahoma"/>
              </a:rPr>
              <a:t>Assig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555640"/>
            <a:ext cx="82296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mulate research questions to capture research problem and to provide framework for description of find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dicate what data will be needed for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fluence data collection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3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problem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Using social media in advertising for increasing its eff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ques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39" name="Rounded Rectangle 1"/>
          <p:cNvSpPr/>
          <p:nvPr/>
        </p:nvSpPr>
        <p:spPr>
          <a:xfrm>
            <a:off x="646200" y="1989000"/>
            <a:ext cx="1404720" cy="432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38000" y="1277640"/>
            <a:ext cx="704844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he research objectives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sz="1500" spc="-1" strike="noStrike">
                <a:solidFill>
                  <a:srgbClr val="000000"/>
                </a:solidFill>
                <a:latin typeface="Tahoma"/>
              </a:rPr>
              <a:t>when formulating research objectives respect research ques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ahoma"/>
              </a:rPr>
              <a:t>- the research objectives more specify research focu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goal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describe way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propose suitable indicators to measue influence of social media using on effectiveness of advertising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a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factors influencing effectiveness of advertising by using social media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b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judge if some of factors have higher influence than other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4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45" name="Rounded Rectangle 1"/>
          <p:cNvSpPr/>
          <p:nvPr/>
        </p:nvSpPr>
        <p:spPr>
          <a:xfrm>
            <a:off x="457200" y="2808360"/>
            <a:ext cx="2438280" cy="2872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Example- continu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0560" y="1125000"/>
            <a:ext cx="6635880" cy="7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case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specific question you can predict in advance what you expect (before you get and analyze 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prediction is based on the theory from which one can derive hypothe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Use the hypothesis, if it is possible and useful and do not use it if it does no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0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repare it in this wa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1: (it can be also RO1a, RO1b,…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1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, it could be also H1a, H1b,… 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2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number of research questions, objectives and hypotheses is connected with character of your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6438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Quantitative or qualitative research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earch is captured by the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data are needed to answer the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How to collect and analyze data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76"/>
              </a:spcBef>
              <a:buClr>
                <a:srgbClr val="ffcf01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ults of analyzing data for answering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esting theory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reating new the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Verification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testing hypotheses defined on the base of literature review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nt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Creation</a:t>
            </a:r>
            <a:r>
              <a:rPr b="0" lang="en-GB" sz="20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suggestion or development of a theory that would explain phenomena or results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l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1422360"/>
            <a:ext cx="73548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How to choose a suitable research approach and methods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276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 answering these ques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o you intend to make a standardized comparison, quantify the relationships between the variables and describe the variabilit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r, do you want to seek a more detailed study of a phenomenon or situation, holistically and in a context, with a focus on interpretations or process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suggestions can be found in the literature on the topic within this methodological issu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are the practical implications of each alternative (including access to data and sources needs)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ich way leads to deeper knowledg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type of research is closer to your mind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6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804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Methodology of research (approach, method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05228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ahoma"/>
              </a:rPr>
              <a:t>How to collect and analyse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what data (primary / secondary) you need to answer research questions - choose the techniques to collect them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questionnaire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terview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bservations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ools and procedures for individual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questionnaires - what kind of questions, posting by mail, electronically, </a:t>
            </a:r>
            <a:r>
              <a:rPr b="0" lang="is-I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interviews - where, when, how to record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Analysi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how data will be analysed to get answers to research questions and to solve a research probl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itle of 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hD stu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uper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Data collection techn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1415520"/>
            <a:ext cx="749952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paring a research timetable will help verify the feasibility of research over a given time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vision of research into phases (steps)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each phase has a time period to comp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sources need to be assessed on material and financial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availability of databases, software, </a:t>
            </a:r>
            <a:r>
              <a:rPr b="0" lang="is-I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 availability of  financial sources or how could b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urces for research ob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Expected limitations of your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theo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6310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pract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2600" y="333000"/>
            <a:ext cx="76536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References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1341000"/>
            <a:ext cx="65628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ry to identify topic to stu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entral idea to learn about or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267920"/>
            <a:ext cx="72835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Literature review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demonstr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vel of knowled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r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„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Create argumentation, no library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Rudestam, Newton, 2002, s.5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Literature review (just summary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134100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Defining the research problem and the main objective of research 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research problem is based on the so-called "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research ga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"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existing literature, solutions and research results can not be found, the problem has not been addressed,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oblem has been solved, but the results are different, conflicts can be found in theoretical approaches, empirical method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identified research problem follows by the formulation of the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ain objectiv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f the 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2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problem and main aim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of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63640" y="1484280"/>
            <a:ext cx="662472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How to set research questions, objectives and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sp>
        <p:nvSpPr>
          <p:cNvPr id="126" name="Zástupný symbol pro číslo snímku 11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AB24-63D8-4995-BC1F-08E6091305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7:44:03Z</dcterms:created>
  <dc:creator>Drahomíra Pavelková</dc:creator>
  <dc:description/>
  <dc:language>en-US</dc:language>
  <cp:lastModifiedBy>Drahomíra Pavelková</cp:lastModifiedBy>
  <dcterms:modified xsi:type="dcterms:W3CDTF">2019-09-11T19:13:08Z</dcterms:modified>
  <cp:revision>10</cp:revision>
  <dc:subject/>
  <dc:title>      Conceptual research 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